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F02-F63A-48B4-A4F1-5DE4B86B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C2B-1EE7-460E-B489-4BD53265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131-43E0-4332-9197-C38EA51C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0E0-634F-48BB-9AB8-D171508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F39-2F3C-43F6-9305-0DC0C3A1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A14-4478-4D21-81A9-AE039C4A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79F-C8B9-49A4-8DB3-A89E7534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C60-A5C9-4E47-8D5E-2B85A17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D6C-6173-4E0B-AFCD-6DB8787C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555-C989-4CA8-B48A-A690587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38B-5966-4079-A742-BB26644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C86-2861-49DE-9B33-37A46EC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B61-719E-4334-B2E3-52C54E88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8600"/>
            <a:ext cx="8382240" cy="59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ahoma"/>
              </a:rPr>
              <a:t>For Sale 1991 Toyota : MR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Everybody needs one of these. Found for sale on ebay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Essent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rust provided by 2 General Electric T-58-3s turbines (with lo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uns on Jet A fuel, probably will run on diesel 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4 fuel t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elf starting and qu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Fire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Fire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Roll over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ower s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ower brakes with heavy duty brakes and slotted dis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ires rated @ approximately 170 mp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rag chute but never nee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tercom and mike/ear piece for your hel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91540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think its street legal except for this little excessive noise 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ar is thrust only, it has no rever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pressor stall through 145 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r intakes are on the sides and top of the engine c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fast salt flat running a modified engine cover is put on to take the air off the top of the roof to supply more air and keep salt out of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ar has twice run on the salt fl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st time it wanted to fly @ 140 mp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cond time, after adding the spoilers and air dam, i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yed solid through 187 mph with a lot more room to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hort video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pping is the responsibility of the buyer, I will include a tow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2600"/>
                <a:tab algn="l" pos="95256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2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b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4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4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1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d_3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2:01:35Z</dcterms:created>
  <dc:creator>113972</dc:creator>
  <dc:description/>
  <dc:language>en-US</dc:language>
  <cp:lastModifiedBy>Gibney</cp:lastModifiedBy>
  <dcterms:modified xsi:type="dcterms:W3CDTF">2005-07-14T20:32:55Z</dcterms:modified>
  <cp:revision>3</cp:revision>
  <dc:subject/>
  <dc:title>No Slide Title</dc:title>
</cp:coreProperties>
</file>